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gif" ContentType="image/gif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AC12-4DB4-4BD9-BF4A-07EB49AE1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38A8-C551-4582-AD3D-263BDB0C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825DD-463F-4A59-AB35-CFCCFDB9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6B3AD6-7427-4BDD-9F15-159A6472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4441D7-9A93-4D5C-8021-44AB6F7C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C867BF-C801-45DF-80F8-B915514F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BED4E1-B328-441D-83EE-99877718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1B235D-F323-4E1F-A543-D56E9659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BBBF2E-4863-4F84-B895-ABF69859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851D91-D4DA-46CF-AA6E-CDB66012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2B0778-561B-47DA-91C4-E39F8E2C15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CD122-C50C-4CA7-B1E6-2712E944DF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2353-1AC6-46B5-A04B-936E2710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117AD-0D6D-4215-BD48-BCB0DFBD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2616A-CC6E-4A50-A062-AC755C23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DEC5C-DABF-4D27-B0A6-CE595A9A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ED0B5-5866-4E70-AA3B-B988671B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403FC-42FE-48AC-B578-BC0D7BCE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BFE26-534F-4691-B364-2A3159DE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B7A41-6BAB-47C6-A4F7-65F85939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3B2CB-A560-4676-96C0-45B05E23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7C933-97C6-4896-843D-D25C9830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1C200-D818-4F88-B2AB-D93E672B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5CFE-BCF8-4014-94C2-9334A04841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FBBF0-4BD2-4C80-A1D7-22ECBAD4AC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B9EE1F-1AE3-4191-9AC8-A733D0CE85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EAC0E3-EE57-4C51-99B9-772536AC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0CAC26-CADA-470C-9364-607743A5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D39C2B-E9F9-4EE8-A644-321BBC21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AF545A-DBB9-490B-8C02-9B890A51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3C2BF4-91CC-4197-98C3-21691D35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1B0DD5-9DCC-452F-9D7B-E8CE98EE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63E2CA-807A-4BFB-99E0-0798932A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A51AEC-3D24-4FEA-8AA4-4CBEB660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EB454-AF1F-4936-AA48-17091B97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7CD294-5C52-4816-AC2C-BCF4308A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20820B-775D-4778-8F0D-9B8C00C5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7BFD00-9D42-403F-94D8-DDCB0D2BE3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F3AF5-3C62-41C6-AF69-5B3BC76FA5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30F42-B25A-42A5-9FB1-8EB99C99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466E4-1534-4028-BF8C-BD25D3D5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D733F-C0DB-4489-B1E7-7691794D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9B732-13B5-47B9-8BDC-4B198C47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1096F-9F52-44E1-81F6-8D06D6E4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24F28-5C62-4C34-8D0E-5FCE444A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CDB62-F173-4660-A52B-8F9FF284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7ACE0-A091-4B6F-991A-25A3EBAB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0EAE3-CCEE-465C-AEDD-C403F260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E9367-F142-498B-B16D-91BBB622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82CE8-B332-4CC8-8AE2-7C8FAE0A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6D3A2-D412-450F-973B-4D4E72C4C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424D1-511A-4F25-A558-1A1E1A63E5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30112-7D15-4EEC-9A9A-6582453C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1AC21-DB49-4770-AAD2-DA8DAE24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2C5F2-3279-4B25-9A72-F1CE8239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3EC8C-3AD7-4A52-8C4E-849A31EF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AA7B5-86F3-402B-B04B-F7257069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B26D4-D969-49F1-8121-6B6D41F3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2A351-4606-432E-B584-39D867FF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87236-0E99-4D30-8532-88A039F7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CD7C7-3BC7-4298-B644-5187488C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A9161-3CD8-4833-91F0-C444673E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21F48-558D-4224-A781-745EBD6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C9DCA-3AF4-43C2-B38C-A067A859A8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33BD4-0882-42AF-9DEF-3C2CBB7E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4E025-681D-402F-A444-D37511C7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9F18C-DB8E-4103-910E-6020F29A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49F3A-C60B-4496-A6ED-23D9B4B2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3B1E6-7029-43E8-A543-6FA35919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50D29-3958-46B9-A18F-8CB9BA33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4978A-EAD2-4809-8351-B0EFF2A6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F466B-A11D-48A4-B1F2-03B2CDC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42701-3F45-4D06-BCE3-C512B5C6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B2C8A-2D78-49AB-AEAF-2789F65F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82A39-EFB8-4F1B-A669-51745B41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9EF86-7609-4E71-B37F-B4C63396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A0074-1462-496C-9E9F-0EE67C0A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C7C36-E7E8-4487-B678-C219666C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855A4-360E-496D-859C-C56FF348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F784C-8A8D-4001-93AB-C5B9B126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5B6CF-39C6-481B-B75D-678CC5E4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F124A-2B5B-4789-99D6-1B321430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1D8EC-50B3-45BB-A722-52893739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C46E9-FC31-4511-ACDE-6827B20D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DCA8C-16F5-446D-9DC5-97FDD8F6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D5212-BAD6-4DF1-9E2B-0466F8A8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0693E-FE45-4424-9FD9-EA5FB8A8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7CC43-A4E5-4657-A393-E0FA1C26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CEECE-AAE2-4479-B32C-27FA77CD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99596-F00D-4A88-892E-F2324F8B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4AB17-FEF9-47A0-9FE8-8AAC45A6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7EC77-F436-4F7B-A20C-6C763537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FACE3-938D-4977-B53B-D33BB68A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2B086-EE32-4D89-B4B7-B10494FD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BB322-D392-46B0-879A-07E1DE52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A9AA6-1A7B-4E05-B8A8-170C8282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BE487-8E24-4D73-86C6-A270B1DE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19BCA-9C2E-4C14-98A0-E991111E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A8C8A-9521-4F82-BF4D-11088A56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9DE66-7C63-4873-B301-D4FC0CA8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4EA10-4C39-42E6-99B8-D9DADDA0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5609C-3AFB-4F82-B810-3CBCC3AB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E8236-B97C-4A9E-9C0A-B59D9A44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B0570-1D34-49BA-8D5F-9066EAA6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5D00F-95DA-4245-A140-CB761B7F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1835C-D51D-4C30-9D48-F363B3A4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EB04F-3588-4A37-A8AA-6A8A2F93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1FFD4-37E4-4E4E-AA2F-FB054177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E0CA8-B94F-48BD-9F44-409F8CE0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1B0D0-B36E-4367-BEE3-0DA2A907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CBC62-5C05-46FA-975B-63B36CC0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A55E-B8BF-4BF4-9C9A-7E781CB8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7AFA9-8107-47AC-AEA1-9A06FD9D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3CD38-CEE8-43FF-B8B5-0B84FE8E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5E6EF-2B2F-47B1-A41A-B71532A2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755E1-D97B-4D58-AFE4-7432998C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E39EA-A13C-4FFE-96F6-2F79B835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D3855-FEEB-4E2E-BE1C-6B0805D7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D5574-E888-4FD6-9640-47B8EDA6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DACFD-3405-4E96-A43B-2392BE04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2C770-547F-4F37-B1B4-E8E90F48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F3D69-BF19-4EAF-80D4-36D18780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94EBC-B5E5-44B3-AF4E-FA1EAD70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3002C-4D90-44B2-B468-980CA588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96FE3-4306-4CB0-B999-7AE1463E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D4917-9CE5-46EC-97A0-248EB153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0C593-F304-4F7D-81B6-E08CA32D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CB53C-ACAF-49CE-83E4-8DEDA6D1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2D80B6-A2A2-4971-84D3-382EB1A2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2CBDA-E0D1-4ABC-9C98-4087C996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67F13-F792-41D8-9DB6-76A76D3D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A5558-E26F-45A3-8DBB-2286A4BB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FB5F8-0035-4219-8697-8FA09927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CC669B-7208-44E2-9425-494F986F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6B1BE-951D-4563-82B9-A9D913C1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7B1A8-366C-4610-A2F8-7C4A6492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642EF-488C-4290-8DB2-2F95CC6A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99F276-66DC-4AF1-9513-0AE8B738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AB156B-A197-40DA-A187-4E65674D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755C7-861D-49EA-8D38-F5131C83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CF0D5-4DEC-4606-A286-6477CAC4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8D0A7-7E10-464A-8B26-4D807BC5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59EB25-2874-40C3-84DE-5CE781A8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2A881-1843-4A5C-AB05-0992100C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850FC5-A000-4ED5-9CA9-862D71B7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71AC2-540E-47C7-B9DD-86DED94A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613FCC-881D-43EF-8AEB-14DA5740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B3A9C9-37FD-456F-ADC2-03C08540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DEFBD1-95DD-4FB3-934D-6610D057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6D35C9-0E39-4984-BF88-DFD5E855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5A136D-6FFE-42D4-B2C3-C4D98F82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E9687-2367-4BCC-B8AF-F134F51B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FFE184-DC96-450E-840C-729F5332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B0509-0670-41D2-81CB-3A91A8AD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1A1C6E-1FA1-4D11-969E-0F15C12D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64897-6379-4D59-A820-F1DE4D7F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008D7-8DCB-43FB-A069-6F76928F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E317E-2463-4ED3-A31A-6BFEA7EC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E9DF6-EC2F-4BC8-BC8F-F4319C44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351BA-6492-4DEF-B0D0-92899258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F4AD1-BF52-417B-87A2-166E4C01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9CABB-B0BF-4EA7-B450-BF7A43D5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101D6-43FB-4043-AFF8-E94CF541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68273-B4B0-43E2-A3A3-95778B87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992031-908B-4A92-9A28-950D7905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381CFD-3ED6-4136-9593-5707F6B2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6CAAD-0C77-445E-8745-9C7B3C67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D45E21-1B13-4026-9D63-77BDD8B5AD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C1E818-1B3E-4D50-A675-987BFB41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8AA480-64E0-40C8-AE0E-2557B9CD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131B3-A062-4D97-8A73-A5091BD6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D8A4A8-8943-4500-AE66-E5685201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5A5566-B470-4870-B1A5-88DF8DBF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7BE0B2-2D5E-4CD0-812B-1EAF4E25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99A994-174B-4CEB-89E1-73F85D2E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C037B-C65C-4264-A623-CB18C11D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7F83AC-4179-42A3-BD5E-6D1AB7DA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729CD2-B27C-4C62-92DF-B10477ED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8EF6E8-5850-4C62-BB38-BE3F0665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ADEFC4-CF5E-47FD-AFCF-ED1D5C1F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8FD6E6-A140-4BBD-AF3B-353A9312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CC491-1B31-4A43-8F68-D020C11A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2BFE2-1B5D-4F14-8A99-6BDD2532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480FB6-B476-4B3B-8B89-2400F9FF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234241-2BD0-4A32-A031-37069A5F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439AF6-A1F6-4A5A-A3A9-F342FDCD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575D24-694E-48AB-8A31-07CD4593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24F67-F601-4D3A-9644-1B7F42B9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71D765-B7EF-4020-82DC-18F5CC0D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7B6717-B6F8-483C-AE25-DF8BE074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CF2F17-8919-4C6E-96D0-ECA0E0FC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BC37BC-2C08-446E-9CD9-5DCC1377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9D0F28-0B18-4BC3-8B05-8D115334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AD9FE8-B349-4372-AE82-A2317E14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149078-BE98-428E-88C2-AE2C34EF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6B1160-9A82-4082-AAE1-83051B8E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7DEA75-9843-4676-A48D-0EE60C46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733E9-2573-42BC-8847-D106B11A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5A2FE-BEA2-4E80-BD40-9DB1A221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16CFB6-1594-4B21-A33C-BF41B1D6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92C262-D377-4F0D-896D-5676DD13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CD0CB5-B1FC-479D-94E1-45542B7F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8C2BD6-3EF2-4F92-AD5A-EBA07EB3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06D8A3-66B7-4564-A3F9-F5DD5E12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3D7EE2-46B4-4758-84B0-70480A74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338473-2747-429A-9497-54962985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5C1661-BAE5-46CF-A968-40AA98E1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82251D-E0E5-419D-9D9A-F4336111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137CC5-037C-405E-B9BE-F07341D9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1B8B4C-4E9A-485E-83B1-04ED300A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21B7D-00A7-45EC-ACD6-47D6EE27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8C6D-EC07-451B-9B49-4DC1BE0C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FFAF83-91CD-40ED-AE9B-FA8C6F98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6E0D5D-2056-4CEA-BF90-38169D92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56E63B-0952-4BF7-ABAA-31862467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B06FF3-0B96-45A6-AB51-4A00B804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49D7D-5835-4576-AEC1-25993B6F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4FA77-4D57-4063-8FBE-51E76082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3825B3-34F0-4E27-BB7C-3F289BD9AE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AC66-C195-46B0-AB1E-A47FB132DD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0BBC-0780-4ADC-B8AC-F8546D49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917A-48C0-4900-96ED-D8204133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91A5-4EAA-4BD0-8C39-1CB07CAB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D4C94-85BC-45C9-83B7-1A839BB9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5AEB-B861-4053-B310-C4FA852F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2D35-C364-41F1-9076-638547F1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DF935-3698-4444-B29E-F5C2055E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8E14A-9250-4470-BA8E-930018EC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EB34-084B-4679-B5A8-3548055F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40A4-CE29-491F-B06E-5E558FE6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E2ABF-8DB9-45ED-8DEF-CC8F56D3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A8023-C53C-484F-94CC-D47214E81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5D62CB-7D4A-4908-9C1B-864F0765CA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BC82-61DE-42D6-815E-15B246F5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F037A-7F93-4F3B-84C2-208CCAD0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353E3-8BC5-4789-81AC-86C4CE25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9E0B8-FBB1-43A3-BECB-63E25E4E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E34D3-2416-44B2-BFD7-812CC752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57E953-9170-4530-B2D3-F6E6FB8D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16CE1-CD30-4629-8CD1-B43F6E67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63102-6E29-49EB-BDC9-AFA87EC3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D6773-F18F-4096-9896-276626B2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8B2BC-9D18-4E0E-9A84-B264FDD5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1030A-BDC5-4DC3-B03B-6E33B434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021B-A78F-434D-84CD-B23CF94D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A502B-8C5C-4241-8BCE-245221C62A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8EA06C-5885-480F-9D1D-C455AABC2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3BDAF9-2332-4C8B-98AB-316624CC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D43FBC-8546-401A-A12B-9B345CD6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EA2621-617B-4A35-8DDF-455F44B1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D625E4-097C-485C-9B02-BD7EF779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4116FA-B00D-4AB2-818E-8782A93D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889F94-F544-4DD1-A174-F0E6A2F8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649A5F-6E2D-46C6-87E1-C5FFB83A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24043B-228D-4934-8F0B-0FDEF452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5064-0E8A-40DD-9FF8-11D002BB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5FDEF9-FD8C-4B81-BA0B-CD153E1C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1865FE-405E-4EA1-A931-88AC60D6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2FC1FC-0BF8-47C7-BBDF-16054131E6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A2B64-E597-4E6D-9776-E9F3A42A92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77BF9-9277-424B-9E9E-AF4FA1AC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11D0E-ABEF-4239-8EAA-75CC3173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D8613-D339-47CB-B22F-F17651F6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CE71B-171B-43CA-800F-B00BB499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3F223-708E-49B8-881D-CD95D676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8B667-732B-47EC-ACE0-DFD58C50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CF61A-3071-46ED-87ED-A7FA2026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CBEEA-CEF5-46AA-94FD-D0203C81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DF9DC-C35F-4901-B254-F41A85E8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D7391-3275-4AD7-8FD1-8A859165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B4AC-4403-4471-A692-FA86AABA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2DCC7-3A58-4F20-BD11-16AB47471C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234E9-BD6A-44F0-A2EF-458647022D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53C5D-918A-4A90-9908-862FED9C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92985A-ED6F-4F45-AD0C-16A9561B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16936-CF5D-42BC-B670-9CCFECD5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59CBD8-E7EF-48C6-A8B8-3D445B4C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F4B3-61F7-40D1-B0FB-9ED8E75C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DEF77-DEF6-41E7-ADD0-7F8DD20C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9F10C-5DF9-4D77-8B67-33A02C50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1899D-45E7-474B-8A03-38C6A6B0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0CAEA-FCA6-4B9D-A5A5-FE8528E0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34535-614D-470A-BB5A-C193CEAE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DFF5C-124F-49BA-9B2B-904BD74D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AD370-318B-411C-957D-C7BCE6C0FB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D5CFD1-13FE-4E60-86EB-32F2B9CE0B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9152D5-D433-40B4-81FA-6C62E6C9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D1C662-C988-4D63-BE45-722633B6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84CC-8DB2-4B1C-AB66-AE9DE70A0A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EA1A-9CB4-4DC4-82FE-2B2F27E0D7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CFD5-10C1-4837-AF4F-7F1CB434675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1772-3659-4E49-9471-0280AED1558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7B3A-C857-4379-9ADB-F93376C7CD8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0B8E-8F5C-49B8-9E27-419665E7F80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DA5C-BD6E-411E-B391-1DCF5A527BA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F576-235E-414E-B933-4BB060DCF71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7B22-A520-42DA-B103-7747C253B07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46E1-86D4-4281-AEAF-89855BF176D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0B10-E8D6-4B08-92F9-AFBE9DD5BC8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56DF-53AC-44B8-85ED-8F8606B89E2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29B9-B6BC-4CE7-9A2C-D4D4A141558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C1F1-5D2F-4034-A81E-ECDE9129830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D50E-EE00-4618-ACB7-A1F277ECD7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DD2A-35F8-4115-9E5C-98CD6C4D469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6672-F1C7-4D34-9F01-B840AA43139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0F73-8293-4253-8BEA-3954BC27FD7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79E4-C743-4E28-8305-4FFF0F43DC6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B823-9481-475F-BD6E-2B3AE58254F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DA8F-33F7-4AC2-B447-953CE6DB400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694B-A0ED-48F7-ACEC-851892BF13F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F34F-3E5D-4EFD-B0CB-CF6C0F2A57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01CE-05A5-4EB2-8730-7DA3716C4A8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96388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解 决 问 题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999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01" name="椭圆 4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5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3"/>
          <p:cNvSpPr/>
          <p:nvPr/>
        </p:nvSpPr>
        <p:spPr>
          <a:xfrm>
            <a:off x="1013760" y="619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铺垫助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3" descr="D:\我的文档-桌面-收藏夹\桌面\QQ图片20150228131442.png"/>
          <p:cNvPicPr/>
          <p:nvPr/>
        </p:nvPicPr>
        <p:blipFill>
          <a:blip r:embed="rId8"/>
          <a:stretch/>
        </p:blipFill>
        <p:spPr>
          <a:xfrm>
            <a:off x="665280" y="1135080"/>
            <a:ext cx="6761160" cy="42289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4" descr="D:\我的文档-桌面-收藏夹\桌面\REJA.tif"/>
          <p:cNvPicPr/>
          <p:nvPr/>
        </p:nvPicPr>
        <p:blipFill>
          <a:blip r:embed="rId9"/>
          <a:stretch/>
        </p:blipFill>
        <p:spPr>
          <a:xfrm>
            <a:off x="1212840" y="3627360"/>
            <a:ext cx="6961320" cy="806400"/>
          </a:xfrm>
          <a:prstGeom prst="rect">
            <a:avLst/>
          </a:prstGeom>
          <a:ln w="0">
            <a:noFill/>
          </a:ln>
        </p:spPr>
      </p:pic>
      <p:sp>
        <p:nvSpPr>
          <p:cNvPr id="1012" name="矩形 7"/>
          <p:cNvSpPr/>
          <p:nvPr/>
        </p:nvSpPr>
        <p:spPr>
          <a:xfrm>
            <a:off x="2212920" y="172080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8"/>
          <p:cNvSpPr/>
          <p:nvPr/>
        </p:nvSpPr>
        <p:spPr>
          <a:xfrm>
            <a:off x="4498920" y="17208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9"/>
          <p:cNvSpPr/>
          <p:nvPr/>
        </p:nvSpPr>
        <p:spPr>
          <a:xfrm>
            <a:off x="6713640" y="17208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10"/>
          <p:cNvSpPr/>
          <p:nvPr/>
        </p:nvSpPr>
        <p:spPr>
          <a:xfrm>
            <a:off x="2212920" y="22924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11"/>
          <p:cNvSpPr/>
          <p:nvPr/>
        </p:nvSpPr>
        <p:spPr>
          <a:xfrm>
            <a:off x="4498920" y="22924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12"/>
          <p:cNvSpPr/>
          <p:nvPr/>
        </p:nvSpPr>
        <p:spPr>
          <a:xfrm>
            <a:off x="6713640" y="22924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13"/>
          <p:cNvSpPr/>
          <p:nvPr/>
        </p:nvSpPr>
        <p:spPr>
          <a:xfrm>
            <a:off x="1284120" y="469908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14"/>
          <p:cNvSpPr/>
          <p:nvPr/>
        </p:nvSpPr>
        <p:spPr>
          <a:xfrm>
            <a:off x="2141640" y="45543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15"/>
          <p:cNvSpPr/>
          <p:nvPr/>
        </p:nvSpPr>
        <p:spPr>
          <a:xfrm>
            <a:off x="2927520" y="469908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16"/>
          <p:cNvSpPr/>
          <p:nvPr/>
        </p:nvSpPr>
        <p:spPr>
          <a:xfrm>
            <a:off x="3998880" y="46990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17"/>
          <p:cNvSpPr/>
          <p:nvPr/>
        </p:nvSpPr>
        <p:spPr>
          <a:xfrm>
            <a:off x="4927680" y="46990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矩形 2"/>
          <p:cNvSpPr/>
          <p:nvPr/>
        </p:nvSpPr>
        <p:spPr>
          <a:xfrm>
            <a:off x="930240" y="1093680"/>
            <a:ext cx="614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比较下面两道题，选择合适的方法解答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3"/>
          <p:cNvSpPr/>
          <p:nvPr/>
        </p:nvSpPr>
        <p:spPr>
          <a:xfrm>
            <a:off x="714240" y="1927080"/>
            <a:ext cx="657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排桌子，每排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张，一共有多少张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4"/>
          <p:cNvSpPr/>
          <p:nvPr/>
        </p:nvSpPr>
        <p:spPr>
          <a:xfrm>
            <a:off x="714240" y="2592360"/>
            <a:ext cx="826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排桌子，一排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张，另一排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张，一共有多少张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5"/>
          <p:cNvSpPr/>
          <p:nvPr/>
        </p:nvSpPr>
        <p:spPr>
          <a:xfrm>
            <a:off x="428760" y="3427560"/>
            <a:ext cx="2428920" cy="571320"/>
          </a:xfrm>
          <a:prstGeom prst="rect">
            <a:avLst/>
          </a:prstGeom>
          <a:solidFill>
            <a:srgbClr val="e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组合 6"/>
          <p:cNvGrpSpPr/>
          <p:nvPr/>
        </p:nvGrpSpPr>
        <p:grpSpPr>
          <a:xfrm>
            <a:off x="5162400" y="4289400"/>
            <a:ext cx="3202200" cy="1009800"/>
            <a:chOff x="5162400" y="4289400"/>
            <a:chExt cx="3202200" cy="1009800"/>
          </a:xfrm>
        </p:grpSpPr>
        <p:sp>
          <p:nvSpPr>
            <p:cNvPr id="1028" name="AutoShape 27"/>
            <p:cNvSpPr/>
            <p:nvPr/>
          </p:nvSpPr>
          <p:spPr>
            <a:xfrm>
              <a:off x="5162400" y="4289400"/>
              <a:ext cx="2000160" cy="991080"/>
            </a:xfrm>
            <a:prstGeom prst="wedgeRoundRectCallout">
              <a:avLst>
                <a:gd name="adj1" fmla="val 58083"/>
                <a:gd name="adj2" fmla="val 35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(1)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题知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道了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9" name="Picture 4" descr="E:\2017秋上·黄倩\其他\人\蜜蜂.gif蜜蜂"/>
            <p:cNvPicPr/>
            <p:nvPr/>
          </p:nvPicPr>
          <p:blipFill>
            <a:blip r:embed="rId1"/>
            <a:stretch/>
          </p:blipFill>
          <p:spPr>
            <a:xfrm>
              <a:off x="7513200" y="4360680"/>
              <a:ext cx="851400" cy="93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组合 9"/>
          <p:cNvGrpSpPr/>
          <p:nvPr/>
        </p:nvGrpSpPr>
        <p:grpSpPr>
          <a:xfrm>
            <a:off x="1192320" y="4361040"/>
            <a:ext cx="3398760" cy="1006200"/>
            <a:chOff x="1192320" y="4361040"/>
            <a:chExt cx="3398760" cy="1006200"/>
          </a:xfrm>
        </p:grpSpPr>
        <p:sp>
          <p:nvSpPr>
            <p:cNvPr id="1031" name="AutoShape 27"/>
            <p:cNvSpPr/>
            <p:nvPr/>
          </p:nvSpPr>
          <p:spPr>
            <a:xfrm>
              <a:off x="2031840" y="4361040"/>
              <a:ext cx="2559240" cy="928800"/>
            </a:xfrm>
            <a:prstGeom prst="wedgeRoundRectCallout">
              <a:avLst>
                <a:gd name="adj1" fmla="val -57319"/>
                <a:gd name="adj2" fmla="val 42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两题都是求一共有多少张桌子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2" name="Picture 2" descr="E:\2017秋上·黄倩\其他\人\海豚.jpg海豚"/>
            <p:cNvPicPr/>
            <p:nvPr/>
          </p:nvPicPr>
          <p:blipFill>
            <a:blip r:embed="rId2"/>
            <a:stretch/>
          </p:blipFill>
          <p:spPr>
            <a:xfrm>
              <a:off x="1192320" y="4443480"/>
              <a:ext cx="675360" cy="9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3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34" name="圆角矩形 15" descr=""/>
            <p:cNvPicPr/>
            <p:nvPr/>
          </p:nvPicPr>
          <p:blipFill>
            <a:blip r:embed="rId3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5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36" name="椭圆 8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7" name="椭圆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8" name="椭圆 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9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4" name="矩形 1"/>
          <p:cNvSpPr/>
          <p:nvPr/>
        </p:nvSpPr>
        <p:spPr>
          <a:xfrm>
            <a:off x="1682280" y="6984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顺思导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八边形 13"/>
          <p:cNvSpPr/>
          <p:nvPr/>
        </p:nvSpPr>
        <p:spPr>
          <a:xfrm>
            <a:off x="385920" y="1074600"/>
            <a:ext cx="5220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47" name="圆角矩形 48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49" name="椭圆 50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0" name="椭圆 5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1" name="椭圆 52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2" name="椭圆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55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56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57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7" name="矩形 1"/>
          <p:cNvSpPr/>
          <p:nvPr/>
        </p:nvSpPr>
        <p:spPr>
          <a:xfrm>
            <a:off x="422280" y="88920"/>
            <a:ext cx="242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宋体"/>
              </a:rPr>
              <a:t>怎样解答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组合 2"/>
          <p:cNvGrpSpPr/>
          <p:nvPr/>
        </p:nvGrpSpPr>
        <p:grpSpPr>
          <a:xfrm>
            <a:off x="338040" y="866880"/>
            <a:ext cx="3591000" cy="1062000"/>
            <a:chOff x="338040" y="866880"/>
            <a:chExt cx="3591000" cy="1062000"/>
          </a:xfrm>
        </p:grpSpPr>
        <p:sp>
          <p:nvSpPr>
            <p:cNvPr id="1059" name="AutoShape 27"/>
            <p:cNvSpPr/>
            <p:nvPr/>
          </p:nvSpPr>
          <p:spPr>
            <a:xfrm>
              <a:off x="1571760" y="866880"/>
              <a:ext cx="2357280" cy="1062000"/>
            </a:xfrm>
            <a:prstGeom prst="wedgeRoundRectCallout">
              <a:avLst>
                <a:gd name="adj1" fmla="val -62435"/>
                <a:gd name="adj2" fmla="val 251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(1)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题是把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加起来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Picture 4" descr="E:\2017秋上·黄倩\其他\人\海豚.jpg海豚"/>
            <p:cNvPicPr/>
            <p:nvPr/>
          </p:nvPicPr>
          <p:blipFill>
            <a:blip r:embed="rId8"/>
            <a:stretch/>
          </p:blipFill>
          <p:spPr>
            <a:xfrm>
              <a:off x="338040" y="938160"/>
              <a:ext cx="772200" cy="93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5"/>
          <p:cNvGrpSpPr/>
          <p:nvPr/>
        </p:nvGrpSpPr>
        <p:grpSpPr>
          <a:xfrm>
            <a:off x="4626000" y="866880"/>
            <a:ext cx="3603240" cy="928440"/>
            <a:chOff x="4626000" y="866880"/>
            <a:chExt cx="3603240" cy="928440"/>
          </a:xfrm>
        </p:grpSpPr>
        <p:sp>
          <p:nvSpPr>
            <p:cNvPr id="1062" name="AutoShape 27"/>
            <p:cNvSpPr/>
            <p:nvPr/>
          </p:nvSpPr>
          <p:spPr>
            <a:xfrm>
              <a:off x="4626000" y="866880"/>
              <a:ext cx="2357640" cy="928440"/>
            </a:xfrm>
            <a:prstGeom prst="wedgeRoundRectCallout">
              <a:avLst>
                <a:gd name="adj1" fmla="val 62222"/>
                <a:gd name="adj2" fmla="val 339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(2)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题是把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合起来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3" name="Picture 2" descr="E:\2017秋上·黄倩\其他\人\t01cd44f4a8bab65945.jpgt01cd44f4a8bab65945"/>
            <p:cNvPicPr/>
            <p:nvPr/>
          </p:nvPicPr>
          <p:blipFill>
            <a:blip r:embed="rId9"/>
            <a:stretch/>
          </p:blipFill>
          <p:spPr>
            <a:xfrm flipH="1">
              <a:off x="7453440" y="871920"/>
              <a:ext cx="775800" cy="92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4" name="矩形 8"/>
          <p:cNvSpPr/>
          <p:nvPr/>
        </p:nvSpPr>
        <p:spPr>
          <a:xfrm>
            <a:off x="1500120" y="1994040"/>
            <a:ext cx="214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×4=2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张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9"/>
          <p:cNvSpPr/>
          <p:nvPr/>
        </p:nvSpPr>
        <p:spPr>
          <a:xfrm>
            <a:off x="5119560" y="1876320"/>
            <a:ext cx="214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+4=9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张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组合 10"/>
          <p:cNvGrpSpPr/>
          <p:nvPr/>
        </p:nvGrpSpPr>
        <p:grpSpPr>
          <a:xfrm>
            <a:off x="285840" y="2471760"/>
            <a:ext cx="4340160" cy="954000"/>
            <a:chOff x="285840" y="2471760"/>
            <a:chExt cx="4340160" cy="954000"/>
          </a:xfrm>
        </p:grpSpPr>
        <p:sp>
          <p:nvSpPr>
            <p:cNvPr id="1067" name="AutoShape 27"/>
            <p:cNvSpPr/>
            <p:nvPr/>
          </p:nvSpPr>
          <p:spPr>
            <a:xfrm>
              <a:off x="1297080" y="2471760"/>
              <a:ext cx="3328920" cy="954000"/>
            </a:xfrm>
            <a:prstGeom prst="wedgeRoundRectCallout">
              <a:avLst>
                <a:gd name="adj1" fmla="val -58421"/>
                <a:gd name="adj2" fmla="val 32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两题中都有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为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什解答的方法不同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8" name="Picture 2" descr="D:\我的文档-桌面-收藏夹\桌面\17.jpg"/>
            <p:cNvPicPr/>
            <p:nvPr/>
          </p:nvPicPr>
          <p:blipFill>
            <a:blip r:embed="rId10"/>
            <a:stretch/>
          </p:blipFill>
          <p:spPr>
            <a:xfrm>
              <a:off x="285840" y="2557440"/>
              <a:ext cx="72468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9" name="组合 13"/>
          <p:cNvGrpSpPr/>
          <p:nvPr/>
        </p:nvGrpSpPr>
        <p:grpSpPr>
          <a:xfrm>
            <a:off x="4983120" y="2471760"/>
            <a:ext cx="2765160" cy="939600"/>
            <a:chOff x="4983120" y="2471760"/>
            <a:chExt cx="2765160" cy="939600"/>
          </a:xfrm>
        </p:grpSpPr>
        <p:sp>
          <p:nvSpPr>
            <p:cNvPr id="1070" name="AutoShape 27"/>
            <p:cNvSpPr/>
            <p:nvPr/>
          </p:nvSpPr>
          <p:spPr>
            <a:xfrm>
              <a:off x="4983120" y="2471760"/>
              <a:ext cx="1643040" cy="929520"/>
            </a:xfrm>
            <a:prstGeom prst="wedgeRoundRectCallout">
              <a:avLst>
                <a:gd name="adj1" fmla="val 62222"/>
                <a:gd name="adj2" fmla="val 339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画画图就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清楚了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1" name="Picture 2" descr="E:\2017秋上·黄倩\其他\人\t01cd44f4a8bab65945.jpgt01cd44f4a8bab65945"/>
            <p:cNvPicPr/>
            <p:nvPr/>
          </p:nvPicPr>
          <p:blipFill>
            <a:blip r:embed="rId11"/>
            <a:stretch/>
          </p:blipFill>
          <p:spPr>
            <a:xfrm flipH="1">
              <a:off x="6972480" y="2486880"/>
              <a:ext cx="775800" cy="92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2" name="组合 62"/>
          <p:cNvGrpSpPr/>
          <p:nvPr/>
        </p:nvGrpSpPr>
        <p:grpSpPr>
          <a:xfrm>
            <a:off x="142920" y="3511440"/>
            <a:ext cx="4357800" cy="1785960"/>
            <a:chOff x="142920" y="3511440"/>
            <a:chExt cx="4357800" cy="1785960"/>
          </a:xfrm>
        </p:grpSpPr>
        <p:sp>
          <p:nvSpPr>
            <p:cNvPr id="1073" name="矩形 16"/>
            <p:cNvSpPr/>
            <p:nvPr/>
          </p:nvSpPr>
          <p:spPr>
            <a:xfrm>
              <a:off x="142920" y="3511440"/>
              <a:ext cx="928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圆角矩形 17"/>
            <p:cNvSpPr/>
            <p:nvPr/>
          </p:nvSpPr>
          <p:spPr>
            <a:xfrm>
              <a:off x="1000080" y="365400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圆角矩形 18"/>
            <p:cNvSpPr/>
            <p:nvPr/>
          </p:nvSpPr>
          <p:spPr>
            <a:xfrm>
              <a:off x="1714680" y="365400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圆角矩形 19"/>
            <p:cNvSpPr/>
            <p:nvPr/>
          </p:nvSpPr>
          <p:spPr>
            <a:xfrm>
              <a:off x="2428920" y="365400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圆角矩形 20"/>
            <p:cNvSpPr/>
            <p:nvPr/>
          </p:nvSpPr>
          <p:spPr>
            <a:xfrm>
              <a:off x="3143520" y="365400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圆角矩形 21"/>
            <p:cNvSpPr/>
            <p:nvPr/>
          </p:nvSpPr>
          <p:spPr>
            <a:xfrm>
              <a:off x="3857760" y="365400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圆角矩形 22"/>
            <p:cNvSpPr/>
            <p:nvPr/>
          </p:nvSpPr>
          <p:spPr>
            <a:xfrm>
              <a:off x="1000080" y="408276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圆角矩形 23"/>
            <p:cNvSpPr/>
            <p:nvPr/>
          </p:nvSpPr>
          <p:spPr>
            <a:xfrm>
              <a:off x="1714680" y="408276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圆角矩形 24"/>
            <p:cNvSpPr/>
            <p:nvPr/>
          </p:nvSpPr>
          <p:spPr>
            <a:xfrm>
              <a:off x="2428920" y="408276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圆角矩形 25"/>
            <p:cNvSpPr/>
            <p:nvPr/>
          </p:nvSpPr>
          <p:spPr>
            <a:xfrm>
              <a:off x="3143520" y="408276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圆角矩形 26"/>
            <p:cNvSpPr/>
            <p:nvPr/>
          </p:nvSpPr>
          <p:spPr>
            <a:xfrm>
              <a:off x="3857760" y="408276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圆角矩形 27"/>
            <p:cNvSpPr/>
            <p:nvPr/>
          </p:nvSpPr>
          <p:spPr>
            <a:xfrm>
              <a:off x="1000080" y="451152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圆角矩形 28"/>
            <p:cNvSpPr/>
            <p:nvPr/>
          </p:nvSpPr>
          <p:spPr>
            <a:xfrm>
              <a:off x="1714680" y="451152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圆角矩形 29"/>
            <p:cNvSpPr/>
            <p:nvPr/>
          </p:nvSpPr>
          <p:spPr>
            <a:xfrm>
              <a:off x="2428920" y="451152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圆角矩形 30"/>
            <p:cNvSpPr/>
            <p:nvPr/>
          </p:nvSpPr>
          <p:spPr>
            <a:xfrm>
              <a:off x="3143520" y="451152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圆角矩形 31"/>
            <p:cNvSpPr/>
            <p:nvPr/>
          </p:nvSpPr>
          <p:spPr>
            <a:xfrm>
              <a:off x="3857760" y="451152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圆角矩形 32"/>
            <p:cNvSpPr/>
            <p:nvPr/>
          </p:nvSpPr>
          <p:spPr>
            <a:xfrm>
              <a:off x="1000080" y="494028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圆角矩形 33"/>
            <p:cNvSpPr/>
            <p:nvPr/>
          </p:nvSpPr>
          <p:spPr>
            <a:xfrm>
              <a:off x="1714680" y="494028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圆角矩形 34"/>
            <p:cNvSpPr/>
            <p:nvPr/>
          </p:nvSpPr>
          <p:spPr>
            <a:xfrm>
              <a:off x="2428920" y="494028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圆角矩形 35"/>
            <p:cNvSpPr/>
            <p:nvPr/>
          </p:nvSpPr>
          <p:spPr>
            <a:xfrm>
              <a:off x="3143520" y="494028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圆角矩形 36"/>
            <p:cNvSpPr/>
            <p:nvPr/>
          </p:nvSpPr>
          <p:spPr>
            <a:xfrm>
              <a:off x="3857760" y="4940280"/>
              <a:ext cx="642960" cy="357120"/>
            </a:xfrm>
            <a:prstGeom prst="roundRect">
              <a:avLst>
                <a:gd name="adj" fmla="val 16667"/>
              </a:avLst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组合 64"/>
          <p:cNvGrpSpPr/>
          <p:nvPr/>
        </p:nvGrpSpPr>
        <p:grpSpPr>
          <a:xfrm>
            <a:off x="1000080" y="5591160"/>
            <a:ext cx="3429000" cy="476280"/>
            <a:chOff x="1000080" y="5591160"/>
            <a:chExt cx="3429000" cy="476280"/>
          </a:xfrm>
        </p:grpSpPr>
        <p:sp>
          <p:nvSpPr>
            <p:cNvPr id="1095" name="矩形 58"/>
            <p:cNvSpPr/>
            <p:nvPr/>
          </p:nvSpPr>
          <p:spPr>
            <a:xfrm>
              <a:off x="1000080" y="5591160"/>
              <a:ext cx="3429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口答：一共有     张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矩形 59"/>
            <p:cNvSpPr/>
            <p:nvPr/>
          </p:nvSpPr>
          <p:spPr>
            <a:xfrm>
              <a:off x="3071880" y="5638680"/>
              <a:ext cx="64296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组合 68"/>
          <p:cNvGrpSpPr/>
          <p:nvPr/>
        </p:nvGrpSpPr>
        <p:grpSpPr>
          <a:xfrm>
            <a:off x="4626000" y="3605040"/>
            <a:ext cx="4286160" cy="1690920"/>
            <a:chOff x="4626000" y="3605040"/>
            <a:chExt cx="4286160" cy="1690920"/>
          </a:xfrm>
        </p:grpSpPr>
        <p:grpSp>
          <p:nvGrpSpPr>
            <p:cNvPr id="1098" name="组合 63"/>
            <p:cNvGrpSpPr/>
            <p:nvPr/>
          </p:nvGrpSpPr>
          <p:grpSpPr>
            <a:xfrm>
              <a:off x="4626000" y="3605040"/>
              <a:ext cx="4286160" cy="929160"/>
              <a:chOff x="4626000" y="3605040"/>
              <a:chExt cx="4286160" cy="929160"/>
            </a:xfrm>
          </p:grpSpPr>
          <p:sp>
            <p:nvSpPr>
              <p:cNvPr id="1099" name="矩形 37"/>
              <p:cNvSpPr/>
              <p:nvPr/>
            </p:nvSpPr>
            <p:spPr>
              <a:xfrm>
                <a:off x="4626000" y="3605040"/>
                <a:ext cx="928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）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38"/>
              <p:cNvSpPr/>
              <p:nvPr/>
            </p:nvSpPr>
            <p:spPr>
              <a:xfrm>
                <a:off x="5411520" y="374796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圆角矩形 39"/>
              <p:cNvSpPr/>
              <p:nvPr/>
            </p:nvSpPr>
            <p:spPr>
              <a:xfrm>
                <a:off x="6126120" y="374796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圆角矩形 40"/>
              <p:cNvSpPr/>
              <p:nvPr/>
            </p:nvSpPr>
            <p:spPr>
              <a:xfrm>
                <a:off x="6840360" y="374796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圆角矩形 41"/>
              <p:cNvSpPr/>
              <p:nvPr/>
            </p:nvSpPr>
            <p:spPr>
              <a:xfrm>
                <a:off x="7554960" y="374796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圆角矩形 42"/>
              <p:cNvSpPr/>
              <p:nvPr/>
            </p:nvSpPr>
            <p:spPr>
              <a:xfrm>
                <a:off x="8269200" y="374796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43"/>
              <p:cNvSpPr/>
              <p:nvPr/>
            </p:nvSpPr>
            <p:spPr>
              <a:xfrm>
                <a:off x="5411520" y="417672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圆角矩形 44"/>
              <p:cNvSpPr/>
              <p:nvPr/>
            </p:nvSpPr>
            <p:spPr>
              <a:xfrm>
                <a:off x="6126120" y="417672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圆角矩形 45"/>
              <p:cNvSpPr/>
              <p:nvPr/>
            </p:nvSpPr>
            <p:spPr>
              <a:xfrm>
                <a:off x="6840360" y="417672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圆角矩形 46"/>
              <p:cNvSpPr/>
              <p:nvPr/>
            </p:nvSpPr>
            <p:spPr>
              <a:xfrm>
                <a:off x="7554960" y="4176720"/>
                <a:ext cx="642960" cy="357480"/>
              </a:xfrm>
              <a:prstGeom prst="roundRect">
                <a:avLst>
                  <a:gd name="adj" fmla="val 16667"/>
                </a:avLst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组合 65"/>
            <p:cNvGrpSpPr/>
            <p:nvPr/>
          </p:nvGrpSpPr>
          <p:grpSpPr>
            <a:xfrm>
              <a:off x="5340240" y="4820040"/>
              <a:ext cx="3429000" cy="475920"/>
              <a:chOff x="5340240" y="4820040"/>
              <a:chExt cx="3429000" cy="475920"/>
            </a:xfrm>
          </p:grpSpPr>
          <p:sp>
            <p:nvSpPr>
              <p:cNvPr id="1110" name="矩形 60"/>
              <p:cNvSpPr/>
              <p:nvPr/>
            </p:nvSpPr>
            <p:spPr>
              <a:xfrm>
                <a:off x="5340240" y="4820040"/>
                <a:ext cx="34290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口答：一共有     张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矩形 61"/>
              <p:cNvSpPr/>
              <p:nvPr/>
            </p:nvSpPr>
            <p:spPr>
              <a:xfrm>
                <a:off x="7412040" y="4867560"/>
                <a:ext cx="642960" cy="42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2" name="矩形 66"/>
          <p:cNvSpPr/>
          <p:nvPr/>
        </p:nvSpPr>
        <p:spPr>
          <a:xfrm>
            <a:off x="3178080" y="5638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67"/>
          <p:cNvSpPr/>
          <p:nvPr/>
        </p:nvSpPr>
        <p:spPr>
          <a:xfrm>
            <a:off x="7518240" y="486900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5" name="Rectangle 64"/>
          <p:cNvSpPr/>
          <p:nvPr/>
        </p:nvSpPr>
        <p:spPr>
          <a:xfrm>
            <a:off x="260280" y="10944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32"/>
          <p:cNvSpPr/>
          <p:nvPr/>
        </p:nvSpPr>
        <p:spPr>
          <a:xfrm>
            <a:off x="420840" y="933480"/>
            <a:ext cx="84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求几个几是多少，用乘法解决；求两部分的和，用加法解决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422280" y="97128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小红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块糖，小丽和小红同样多，小明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块糖，他们一共有多少块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×2+5=17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他们一共有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7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块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组合 2"/>
          <p:cNvGrpSpPr/>
          <p:nvPr/>
        </p:nvGrpSpPr>
        <p:grpSpPr>
          <a:xfrm>
            <a:off x="-41400" y="87480"/>
            <a:ext cx="3108600" cy="527040"/>
            <a:chOff x="-41400" y="87480"/>
            <a:chExt cx="3108600" cy="527040"/>
          </a:xfrm>
        </p:grpSpPr>
        <p:pic>
          <p:nvPicPr>
            <p:cNvPr id="1129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01520" y="87480"/>
              <a:ext cx="29656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0" name="组合 4"/>
            <p:cNvGrpSpPr/>
            <p:nvPr/>
          </p:nvGrpSpPr>
          <p:grpSpPr>
            <a:xfrm>
              <a:off x="-41400" y="182520"/>
              <a:ext cx="411480" cy="274680"/>
              <a:chOff x="-41400" y="182520"/>
              <a:chExt cx="411480" cy="274680"/>
            </a:xfrm>
          </p:grpSpPr>
          <p:sp>
            <p:nvSpPr>
              <p:cNvPr id="1131" name="椭圆 8"/>
              <p:cNvSpPr/>
              <p:nvPr/>
            </p:nvSpPr>
            <p:spPr>
              <a:xfrm rot="16200000">
                <a:off x="198000" y="348480"/>
                <a:ext cx="98640" cy="11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1280" y="315000"/>
                <a:ext cx="208800" cy="1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3" name="椭圆 9"/>
              <p:cNvSpPr/>
              <p:nvPr/>
            </p:nvSpPr>
            <p:spPr>
              <a:xfrm rot="16200000">
                <a:off x="198000" y="222480"/>
                <a:ext cx="98640" cy="11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1280" y="197640"/>
                <a:ext cx="2088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41400" y="331920"/>
                <a:ext cx="338760" cy="10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41400" y="302760"/>
                <a:ext cx="338760" cy="10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41400" y="211680"/>
                <a:ext cx="338760" cy="10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41400" y="182520"/>
                <a:ext cx="338760" cy="104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9" name="矩形 19"/>
          <p:cNvSpPr/>
          <p:nvPr/>
        </p:nvSpPr>
        <p:spPr>
          <a:xfrm>
            <a:off x="1127160" y="2595600"/>
            <a:ext cx="4705200" cy="13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341280" y="930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同学们种树，种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，每排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棵，一共种了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×6=30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一共种了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组合 2"/>
          <p:cNvGrpSpPr/>
          <p:nvPr/>
        </p:nvGrpSpPr>
        <p:grpSpPr>
          <a:xfrm>
            <a:off x="-50760" y="87480"/>
            <a:ext cx="2930400" cy="527040"/>
            <a:chOff x="-50760" y="87480"/>
            <a:chExt cx="2930400" cy="527040"/>
          </a:xfrm>
        </p:grpSpPr>
        <p:pic>
          <p:nvPicPr>
            <p:cNvPr id="1142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82440" y="87480"/>
              <a:ext cx="2797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3" name="组合 4"/>
            <p:cNvGrpSpPr/>
            <p:nvPr/>
          </p:nvGrpSpPr>
          <p:grpSpPr>
            <a:xfrm>
              <a:off x="-50760" y="182520"/>
              <a:ext cx="387360" cy="274320"/>
              <a:chOff x="-50760" y="182520"/>
              <a:chExt cx="387360" cy="274320"/>
            </a:xfrm>
          </p:grpSpPr>
          <p:sp>
            <p:nvSpPr>
              <p:cNvPr id="1144" name="椭圆 8"/>
              <p:cNvSpPr/>
              <p:nvPr/>
            </p:nvSpPr>
            <p:spPr>
              <a:xfrm rot="16200000">
                <a:off x="183600" y="349920"/>
                <a:ext cx="97560" cy="11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5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31760" y="321840"/>
                <a:ext cx="204840" cy="12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椭圆 9"/>
              <p:cNvSpPr/>
              <p:nvPr/>
            </p:nvSpPr>
            <p:spPr>
              <a:xfrm rot="16200000">
                <a:off x="183600" y="225000"/>
                <a:ext cx="97560" cy="11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31760" y="198360"/>
                <a:ext cx="204840" cy="12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8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9480"/>
                <a:ext cx="315720" cy="1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9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8520"/>
                <a:ext cx="315720" cy="1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0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3120"/>
                <a:ext cx="315720" cy="1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15720" cy="10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2" name="矩形 3"/>
          <p:cNvSpPr/>
          <p:nvPr/>
        </p:nvSpPr>
        <p:spPr>
          <a:xfrm>
            <a:off x="1892160" y="2638440"/>
            <a:ext cx="495000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406440" y="86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同学们种树，种了两排，一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棵，一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棵，一共种了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+6=11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一共种了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2"/>
          <p:cNvGrpSpPr/>
          <p:nvPr/>
        </p:nvGrpSpPr>
        <p:grpSpPr>
          <a:xfrm>
            <a:off x="-50760" y="87480"/>
            <a:ext cx="3048120" cy="527040"/>
            <a:chOff x="-50760" y="87480"/>
            <a:chExt cx="3048120" cy="527040"/>
          </a:xfrm>
        </p:grpSpPr>
        <p:pic>
          <p:nvPicPr>
            <p:cNvPr id="1155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88920" y="87480"/>
              <a:ext cx="29084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6" name="组合 4"/>
            <p:cNvGrpSpPr/>
            <p:nvPr/>
          </p:nvGrpSpPr>
          <p:grpSpPr>
            <a:xfrm>
              <a:off x="-50760" y="182520"/>
              <a:ext cx="403200" cy="274320"/>
              <a:chOff x="-50760" y="182520"/>
              <a:chExt cx="403200" cy="274320"/>
            </a:xfrm>
          </p:grpSpPr>
          <p:sp>
            <p:nvSpPr>
              <p:cNvPr id="1157" name="椭圆 8"/>
              <p:cNvSpPr/>
              <p:nvPr/>
            </p:nvSpPr>
            <p:spPr>
              <a:xfrm rot="16200000">
                <a:off x="186840" y="348840"/>
                <a:ext cx="98280" cy="117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8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45080" y="317160"/>
                <a:ext cx="207360" cy="12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9" name="椭圆 9"/>
              <p:cNvSpPr/>
              <p:nvPr/>
            </p:nvSpPr>
            <p:spPr>
              <a:xfrm rot="16200000">
                <a:off x="186840" y="223200"/>
                <a:ext cx="98280" cy="117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45080" y="198000"/>
                <a:ext cx="20736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1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4440"/>
                <a:ext cx="330840" cy="1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4560"/>
                <a:ext cx="330840" cy="1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3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2400"/>
                <a:ext cx="330840" cy="1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4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30840" cy="10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5" name="矩形 3"/>
          <p:cNvSpPr/>
          <p:nvPr/>
        </p:nvSpPr>
        <p:spPr>
          <a:xfrm>
            <a:off x="2308320" y="2478240"/>
            <a:ext cx="3981240" cy="15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01:35:00Z</dcterms:created>
  <dc:creator/>
  <dc:description/>
  <dc:language>en-US</dc:language>
  <cp:lastModifiedBy>万润仪器贸易公司</cp:lastModifiedBy>
  <dcterms:modified xsi:type="dcterms:W3CDTF">2020-08-21T00:34:50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